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6604-2A4B-45B5-A6C1-C49D00809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CE53-CF9B-4285-876E-8339B78F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42DE-44EE-4779-906A-33FF5A1A4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FAD4-099B-49DC-8396-58C62517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7806-8FC2-4E60-87FC-DF00387F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FDBE-4A2E-4CDE-9E6C-E4134F19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BC02-F533-4E55-89F8-3D312BA2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7A94-B049-469E-B1FA-C5E5680C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5C6A-4273-4EF7-9489-BBB53454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FFB5-3F65-41E6-89E3-0888072A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069D-AC60-4FD0-88CD-D83CDB56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005C-21A7-440C-8E07-6E186E53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D097-A56E-4491-9DCF-4578AA50999D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800" spc="-1" strike="noStrike">
                <a:solidFill>
                  <a:srgbClr val="000000"/>
                </a:solidFill>
                <a:latin typeface="Calibri"/>
              </a:rPr>
              <a:t>Hurricane Floyd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98989"/>
                </a:solidFill>
                <a:latin typeface="Calibri"/>
              </a:rPr>
              <a:t>Case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98989"/>
                </a:solidFill>
                <a:latin typeface="Calibri"/>
              </a:rPr>
              <a:t>September 19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t the coast of Florida and then moved North towards Georgia and South Caroli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rrential rain and 155mph winds battered the area, bringing down power and phone lines and snapping tre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whipped up 20-foot waves along the coa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xious holidaymakers and local residents fleeing the storm jammed road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a million people were evacuated from Key Biscayne, Miami Beach and Fort Lauderda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oyd was more than 600 miles in diameter and was the biggest storm to hit Florida since Hurricane Andrew in 1992 (that left 26 dead, 160,000 homeless and caused $25billion of damage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oyd was estimated to be three times as strong as Andre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23:56:49Z</dcterms:created>
  <dc:creator>Dell_02</dc:creator>
  <dc:description/>
  <dc:language>en-US</dc:language>
  <cp:lastModifiedBy>Dell_02</cp:lastModifiedBy>
  <dcterms:modified xsi:type="dcterms:W3CDTF">2011-01-28T00:03:10Z</dcterms:modified>
  <cp:revision>1</cp:revision>
  <dc:subject/>
  <dc:title>Hurricane Floyd</dc:title>
</cp:coreProperties>
</file>